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6661-5E01-40D9-85EF-198750573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EBD4-D0D1-4927-9E73-77615093D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8160-0553-4966-8F9F-61DCA1BED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F4BA-0527-4ABE-BDBE-EF4855FEB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6C112-BD62-4867-94A6-D3F343B5B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BBDB5-38DC-499C-AD86-A7CB1CA80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CF9E2-9544-4B4B-9D69-9AC889B9B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43E3C-6965-459C-B60D-1BD2E8668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1EA0C-062E-4B0B-A628-D006EFAFB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0799B-42A8-4017-B6A8-72D078A96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A1781-8B2C-4E58-9E53-5113526F4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EED2-983C-4B54-A7CF-17252AFA9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25C8D-070C-41D0-A456-5D0F8C72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D26A2-B071-4BF8-9584-84881F290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5E190-90F2-4F3C-B20A-2C10736F9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29B23-1A9C-4B91-94EE-7A255A208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E96DF-1947-4A47-BF37-E2AC20575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E64105-13D6-404E-9800-9DD642AE2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76E6E2-6D08-4BE1-95DE-BFD0BDB17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2198D3-DEB5-49D4-8802-9F728EAE7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6477D9-6E1E-492B-9037-638446216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08582E-1104-4A6D-9711-9139AC47A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C40F-EB1D-4A9E-B48A-00F2A709A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AAC6BD-866B-4913-9C40-793004AE9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0EB34E-0ED4-47DF-BA34-CB22E50E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5472E4-8BA0-4103-A437-5694A3272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2106CE-2EB0-44DE-ABF0-B6A23ECF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57CCA1-EF8C-4125-A8C4-905122CAA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028B50-D0C9-46C8-80B8-8104D94A4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5EABC3-FE2E-4A3D-AC74-39FAE234C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79D1E-BC3E-44AB-A4B2-00BA7C032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43771-6FA0-45E8-A98E-6FAF977B9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14E1C-6F3B-44B9-A872-3C2669D77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A169-6108-4EC8-AE77-B377CB3DF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EB282-C584-41A9-8638-A5E47A28C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B89F1-854B-443C-8130-EF4286F0B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91426-D97B-4A4A-8B19-6A55A9C70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8532B-338F-4330-ABD0-6914C061D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8D8AB-CE50-42D2-8806-98D126C0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7BBDB-755A-4863-B237-A4D67C52F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BC906-7257-42C5-8FBF-97175D080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59BB4-E8D0-4FFA-8507-F9DBF9772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10A42-ECBE-4BBD-A9E1-3C0B9A74F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281EFA-CBDF-4B7E-880B-9E75B20AB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15EC-1BBB-4A90-86D7-C7F45033D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B43058-5B45-48DB-B409-6014CBC4A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850C51-947C-4B52-9443-250607DAF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332E87-CCC8-4F59-9774-36FC83D22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87FD2D-3323-40E1-B4A8-2CB2BE0DE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FCC087-485F-4144-AAFD-221CA33ED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4A41DB-15C8-4E70-BF86-18358649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1679A7-FE4C-4317-85B8-D4A8DBD5D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EAD994-6865-429E-B558-2FACB10D3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E29023-923B-424D-8E5D-F1CF94CA9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DF1D92-EC9B-4BAA-AD9C-84A7A0946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B70E-C6AA-4610-8D9C-9EA7295AD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C6238D-5876-45D6-A09B-2B18C87E3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594A52-CB7E-4AAC-9E9B-6CE7679D3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4942CC-9BD6-4C4E-B7B1-1CB2D0E24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BE0098-1066-4B6F-91D7-63A6E8FD0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A2A720-251A-4D9C-9CE3-9BB5B2670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46B3DA-CB3E-436F-A0E4-9DEDA4365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5C7601-ECA1-4047-B882-DA2796E78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5B6EF7-CFFB-4AAD-97F4-636DBF1F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CD845C-7BF8-474E-BF31-C90F4BE36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82E200-7B94-4611-8D65-C35B7DFE0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09F0-46C0-4E3F-ACF3-64163006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C01C9D-12B1-486E-988F-2A9F473C0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F3C1C9-1830-4D9B-8238-8C921E2DC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3E4668-A7BD-433A-938B-07EEBC3C1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610EFA-D1D6-4A4C-B564-148F6E1A9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920BD3-9172-42CD-A739-5BCD9FA99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CDD2D3-DCEA-4929-8CA0-A9BC94669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AD5087-0D92-41C4-9AF2-0B9B5FE62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0DA092-DE95-4CD6-ABC7-A2D801F8E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E99104-3AFB-4964-BE18-EBEF06219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8A6741-FE72-4770-A40D-6EEF5C225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1B9D-C1A7-4C9B-88C3-31EE3694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6CB50B-9B8E-402B-AC41-7C6AF3C68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6E2955-B69F-43A5-9FF4-02A9BFED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681C86-872F-4D4F-8565-F85486234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54FE03-DB6C-4668-8AF0-C4075BAA2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987D42-FB9A-4872-9EB2-7401BC258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5B3F-93A0-479F-93E4-ECAE6AD2E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E45C7-44B1-4962-A3CA-640A6526B0C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B86F8-C96B-4F4C-A214-4E53F556E42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2EADD-3247-4577-934A-067DC3FF399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11311-6297-4077-8351-1FE862FFEF1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D3B40-1F9A-4140-AFCC-981FD2C8C34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9E7B0-EA83-4AA4-94BB-671095413ED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BAEA5-CD41-4B76-ACC7-0F7E894FDD0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28920" y="285480"/>
            <a:ext cx="650088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МОЦИИ ТРЕВОГИ И СТРАХА: СРАВНИТЕЛЬНАЯ ХАРАКТЕРИСТИК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2" name="Picture 2" descr=""/>
          <p:cNvPicPr/>
          <p:nvPr/>
        </p:nvPicPr>
        <p:blipFill>
          <a:blip r:embed="rId1"/>
          <a:stretch/>
        </p:blipFill>
        <p:spPr>
          <a:xfrm rot="21285600">
            <a:off x="5357880" y="1643040"/>
            <a:ext cx="3413160" cy="25718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3" descr=""/>
          <p:cNvPicPr/>
          <p:nvPr/>
        </p:nvPicPr>
        <p:blipFill>
          <a:blip r:embed="rId2"/>
          <a:stretch/>
        </p:blipFill>
        <p:spPr>
          <a:xfrm rot="541800">
            <a:off x="2144520" y="4540320"/>
            <a:ext cx="3166920" cy="20811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4" descr=""/>
          <p:cNvPicPr/>
          <p:nvPr/>
        </p:nvPicPr>
        <p:blipFill>
          <a:blip r:embed="rId3"/>
          <a:stretch/>
        </p:blipFill>
        <p:spPr>
          <a:xfrm rot="1005600">
            <a:off x="500040" y="428760"/>
            <a:ext cx="1776600" cy="23572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5" descr=""/>
          <p:cNvPicPr/>
          <p:nvPr/>
        </p:nvPicPr>
        <p:blipFill>
          <a:blip r:embed="rId4"/>
          <a:stretch/>
        </p:blipFill>
        <p:spPr>
          <a:xfrm rot="20731800">
            <a:off x="2499840" y="1857240"/>
            <a:ext cx="2265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13920" y="357120"/>
            <a:ext cx="68295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РЕВОГА И ТРЕВОЖНОСТЬ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1143000"/>
            <a:ext cx="825804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ревог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это эмоциональное переживание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ревожност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психологическая особенность, устойчивое свойство человека, характерная для него черта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Picture 3" descr=""/>
          <p:cNvPicPr/>
          <p:nvPr/>
        </p:nvPicPr>
        <p:blipFill>
          <a:blip r:embed="rId1"/>
          <a:stretch/>
        </p:blipFill>
        <p:spPr>
          <a:xfrm rot="211200">
            <a:off x="433440" y="3832200"/>
            <a:ext cx="3929040" cy="26114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5" descr=""/>
          <p:cNvPicPr/>
          <p:nvPr/>
        </p:nvPicPr>
        <p:blipFill>
          <a:blip r:embed="rId2"/>
          <a:stretch/>
        </p:blipFill>
        <p:spPr>
          <a:xfrm rot="21229200">
            <a:off x="4838400" y="3839760"/>
            <a:ext cx="378612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85480" y="214200"/>
            <a:ext cx="635796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РЕВОЖНОСТЬ И СТРАХ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213840" y="928800"/>
            <a:ext cx="8543880" cy="56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ритерии различия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ь конкретности угрозы, опасности, на которую реагирует человек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ность угрозы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 реагирования человек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ть организации переживания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нсивность переживания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щущение внутренней напряженности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ражительност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бственно тревог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рах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щущение неотвратимости надвигающейся катастрофы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вожно-боязливое возбуждени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2" name="Picture 3" descr=""/>
          <p:cNvPicPr/>
          <p:nvPr/>
        </p:nvPicPr>
        <p:blipFill>
          <a:blip r:embed="rId1"/>
          <a:stretch/>
        </p:blipFill>
        <p:spPr>
          <a:xfrm>
            <a:off x="6929280" y="214200"/>
            <a:ext cx="1722600" cy="1785960"/>
          </a:xfrm>
          <a:prstGeom prst="rect">
            <a:avLst/>
          </a:prstGeom>
          <a:ln w="0">
            <a:noFill/>
          </a:ln>
        </p:spPr>
      </p:pic>
      <p:sp>
        <p:nvSpPr>
          <p:cNvPr id="363" name="Стрелка вправо 5"/>
          <p:cNvSpPr/>
          <p:nvPr/>
        </p:nvSpPr>
        <p:spPr>
          <a:xfrm>
            <a:off x="357120" y="4572000"/>
            <a:ext cx="28584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Стрелка вправо 6"/>
          <p:cNvSpPr/>
          <p:nvPr/>
        </p:nvSpPr>
        <p:spPr>
          <a:xfrm>
            <a:off x="357120" y="4929120"/>
            <a:ext cx="285840" cy="21456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Стрелка вправо 7"/>
          <p:cNvSpPr/>
          <p:nvPr/>
        </p:nvSpPr>
        <p:spPr>
          <a:xfrm>
            <a:off x="7429680" y="4929120"/>
            <a:ext cx="285480" cy="214560"/>
          </a:xfrm>
          <a:prstGeom prst="rightArrow">
            <a:avLst>
              <a:gd name="adj1" fmla="val 50000"/>
              <a:gd name="adj2" fmla="val 49895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Стрелка вправо 8"/>
          <p:cNvSpPr/>
          <p:nvPr/>
        </p:nvSpPr>
        <p:spPr>
          <a:xfrm>
            <a:off x="3714840" y="4929120"/>
            <a:ext cx="285840" cy="21456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Стрелка вправо 9"/>
          <p:cNvSpPr/>
          <p:nvPr/>
        </p:nvSpPr>
        <p:spPr>
          <a:xfrm>
            <a:off x="357120" y="5286240"/>
            <a:ext cx="285840" cy="21456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Стрелка вправо 10"/>
          <p:cNvSpPr/>
          <p:nvPr/>
        </p:nvSpPr>
        <p:spPr>
          <a:xfrm>
            <a:off x="357120" y="5643720"/>
            <a:ext cx="28584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928880" y="357120"/>
            <a:ext cx="4543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РЕВОГА И СТРАХ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457200" y="1143000"/>
          <a:ext cx="8186760" cy="4857840"/>
        </p:xfrm>
        <a:graphic>
          <a:graphicData uri="http://schemas.openxmlformats.org/drawingml/2006/table">
            <a:tbl>
              <a:tblPr/>
              <a:tblGrid>
                <a:gridCol w="4210200"/>
                <a:gridCol w="3976560"/>
              </a:tblGrid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СТРА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ТРЕВО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ершенная определенная, специфичная эмо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да несет негативный оттено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о комбинация эмоций, где страх – лишь одна из ни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а и в виде радостного волнения, волнующего ожид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9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Е: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рахе и в тревоге есть общий эмоциональный компонент в виде чувства волнения и беспокойства, т.е. в обоих понятиях отображено восприятие угрозы или отсутствие чувства безопас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13880" y="213840"/>
            <a:ext cx="7682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РАХ И ТРЕВОГА ПО ЩЕРБАТЫХ Ю.В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428760" y="1071720"/>
          <a:ext cx="8072280" cy="5367240"/>
        </p:xfrm>
        <a:graphic>
          <a:graphicData uri="http://schemas.openxmlformats.org/drawingml/2006/table">
            <a:tbl>
              <a:tblPr/>
              <a:tblGrid>
                <a:gridCol w="2690640"/>
                <a:gridCol w="2691000"/>
                <a:gridCol w="2690640"/>
              </a:tblGrid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Призна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Трево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Стра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040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ношение к опас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гнал опас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 на опас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124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енные особен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никает до наступления опас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никает во время наступления опас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040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ие на психик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буждающе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рмозяще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172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 стимулов, вызывающих эмоци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пределенный, абстрактный характ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ный, конкретный характ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3" name=""/>
          <p:cNvGraphicFramePr/>
          <p:nvPr/>
        </p:nvGraphicFramePr>
        <p:xfrm>
          <a:off x="500040" y="428760"/>
          <a:ext cx="7786800" cy="6000480"/>
        </p:xfrm>
        <a:graphic>
          <a:graphicData uri="http://schemas.openxmlformats.org/drawingml/2006/table">
            <a:tbl>
              <a:tblPr/>
              <a:tblGrid>
                <a:gridCol w="2595600"/>
                <a:gridCol w="2595600"/>
                <a:gridCol w="2595600"/>
              </a:tblGrid>
              <a:tr h="171108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ие во време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цирована в будуще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точником является прошлый травмирующий опы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924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ль мыслительных процессов в формировании психических ощуще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ррациональный феноме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циональный феноме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08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кализация в кор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вое полушар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ое полушар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08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реагир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о-обусловлен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тинктивно-обусловлен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235728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ЗЮМЕ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214200" y="1000080"/>
            <a:ext cx="850104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ревог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является эмоциональным переживанием, а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ревожност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устойчивое свойство человек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вожность и страх различаются по: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и конкретности угрозы; направленности угрозы; способу реагирования человека; сложности организации переживания; интенсивности пережива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тра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совершенная определенная, специфичная эмоция.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А тревог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комбинация эмоций, где страх – лишь одна из них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трах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да несет негативный оттенок, а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ревог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зможна и в виде радостного волнения, волнующего ожидания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71680" y="357120"/>
            <a:ext cx="4114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entury Schoolbook"/>
              </a:rPr>
              <a:t>ЛИТЕРАТУРА: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428840"/>
            <a:ext cx="775800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ербатых Ю.В. Ивлева Е.И. «Психофизиологические и клинические аспекты страха, тревоги и фобий». Воронеж. Истоки. 1998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psy.1september.ru/articlef.php?ID=200400804. Статья: «ТРЕВОЖНОСТЬ, ТРЕВОГА, СТРАХ: РАЗЛИЧЕНИЕ ПОНЯТИЙ» - Игорь ВАЧКОВ, доктор психологических наук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ард  К.Э.  Психология эмоций  СПб., 1999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1-12T18:50:53Z</dcterms:modified>
  <cp:revision>8</cp:revision>
  <dc:subject/>
  <dc:title>Эмоции тревоги и страха: сравнительная характеристи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e0a0000000000010250600207f5200358026400</vt:lpwstr>
  </property>
</Properties>
</file>